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A7F-2958-479F-B37E-949AF288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E37-F86C-40D5-8257-93FD7F63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2CA-7BED-4F0C-B312-7271E776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C72-F957-48B3-A630-E51E7D81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B32-F2C6-4AEB-9A56-81947BCB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165-DA0F-4D05-BCA8-76F3BC42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308-EBAE-4F27-AE47-8F2EC7DD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FC9-8D97-4A74-915E-B3B4ED25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AEC-CC68-4698-9FB3-ADBA5466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AAB-C41E-4893-AE9B-B8EDD40A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62C-AB26-4384-81E9-A8DF7558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968-2785-4BEB-B3E0-89C3444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AC89-604C-4AF2-9915-2B0FEB3BD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ig5.made-in-china.com/image/2f0j01QCZtPdkBOEpaM/&#27915;&#33905;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ib.moker.com.tw/main/show_image.php?pic_id=30866&amp;type=D" TargetMode="External"/><Relationship Id="rId2" Type="http://schemas.openxmlformats.org/officeDocument/2006/relationships/hyperlink" Target="http://mib.moker.com.tw/main/show_image.php?pic_id=30866&amp;type=D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59120" y="457200"/>
            <a:ext cx="455616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5562720"/>
            <a:ext cx="746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媽媽要去買菜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W020081124339108903312" descr="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6553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380880"/>
            <a:ext cx="48006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大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白</a:t>
            </a: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菜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 lb. for 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$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876920"/>
            <a:ext cx="5410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dà bái cài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0120" y="3110040"/>
            <a:ext cx="5867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0" tIns="-88200" bIns="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0120" y="3110040"/>
            <a:ext cx="5867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10764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0120" y="3110040"/>
            <a:ext cx="893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90000" tIns="-4392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æ´è±" descr="洋蔥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900000"/>
            <a:ext cx="7391520" cy="5513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6880" y="228600"/>
            <a:ext cx="11210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洋蔥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86200"/>
            <a:ext cx="365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q-AL" sz="5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q-AL" sz="10000" spc="-1" strike="noStrike" baseline="30000">
                <a:solidFill>
                  <a:srgbClr val="000000"/>
                </a:solidFill>
                <a:latin typeface="Times New Roman"/>
              </a:rPr>
              <a:t>76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 lb.</a:t>
            </a:r>
            <a:r>
              <a:rPr b="0" lang="sq-AL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257800"/>
            <a:ext cx="5791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yáng cō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0080130103050941" descr=""/>
          <p:cNvPicPr/>
          <p:nvPr/>
        </p:nvPicPr>
        <p:blipFill>
          <a:blip r:embed="rId1"/>
          <a:stretch/>
        </p:blipFill>
        <p:spPr>
          <a:xfrm>
            <a:off x="1676520" y="520560"/>
            <a:ext cx="5798880" cy="5818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0"/>
            <a:ext cx="2057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菠菜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181480"/>
            <a:ext cx="6019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 lb.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$3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152280"/>
            <a:ext cx="3733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bō cài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81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images" descr="See full size image"/>
          <p:cNvPicPr/>
          <p:nvPr/>
        </p:nvPicPr>
        <p:blipFill>
          <a:blip r:embed="rId1"/>
          <a:stretch/>
        </p:blipFill>
        <p:spPr>
          <a:xfrm>
            <a:off x="1752480" y="457200"/>
            <a:ext cx="7391520" cy="5580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914400"/>
            <a:ext cx="1295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馬鈴薯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410080"/>
            <a:ext cx="6705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mǎ líng shǔ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6a989f620caf482cad2c26d47dc53716" descr=""/>
          <p:cNvPicPr/>
          <p:nvPr/>
        </p:nvPicPr>
        <p:blipFill>
          <a:blip r:embed="rId1"/>
          <a:stretch/>
        </p:blipFill>
        <p:spPr>
          <a:xfrm>
            <a:off x="3657600" y="0"/>
            <a:ext cx="51735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609480"/>
            <a:ext cx="2590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番茄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812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sq-AL" sz="10000" spc="-1" strike="noStrike" baseline="30000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 lb.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952880"/>
            <a:ext cx="4191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fān qié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254b5c6a4cfb4d9" descr=""/>
          <p:cNvPicPr/>
          <p:nvPr/>
        </p:nvPicPr>
        <p:blipFill>
          <a:blip r:embed="rId1"/>
          <a:stretch/>
        </p:blipFill>
        <p:spPr>
          <a:xfrm>
            <a:off x="2860560" y="0"/>
            <a:ext cx="6283440" cy="701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0"/>
            <a:ext cx="2209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茄子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343400"/>
            <a:ext cx="3962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q-AL" sz="10000" spc="-1" strike="noStrike" baseline="30000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 lb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791320"/>
            <a:ext cx="3505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qié zǐ</a:t>
            </a: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ææºç»¿è±è" descr=""/>
          <p:cNvPicPr/>
          <p:nvPr/>
        </p:nvPicPr>
        <p:blipFill>
          <a:blip r:embed="rId1"/>
          <a:stretch/>
        </p:blipFill>
        <p:spPr>
          <a:xfrm>
            <a:off x="1523880" y="0"/>
            <a:ext cx="7925040" cy="664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0"/>
            <a:ext cx="1218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花菜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4952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q-AL" sz="10000" spc="-1" strike="noStrike" baseline="30000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lb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5562720"/>
            <a:ext cx="426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huā cài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99" name="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images" descr="See full size image"/>
          <p:cNvPicPr/>
          <p:nvPr/>
        </p:nvPicPr>
        <p:blipFill>
          <a:blip r:embed="rId1"/>
          <a:stretch/>
        </p:blipFill>
        <p:spPr>
          <a:xfrm>
            <a:off x="1447920" y="1166760"/>
            <a:ext cx="7162560" cy="540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1523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Times New Roman"/>
              </a:rPr>
              <a:t>竹筍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952880"/>
            <a:ext cx="4724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zhú sǔn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3151_20080327074725_116252175" descr=""/>
          <p:cNvPicPr/>
          <p:nvPr/>
        </p:nvPicPr>
        <p:blipFill>
          <a:blip r:embed="rId1"/>
          <a:stretch/>
        </p:blipFill>
        <p:spPr>
          <a:xfrm>
            <a:off x="3505320" y="-152280"/>
            <a:ext cx="508320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0"/>
            <a:ext cx="2895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香</a:t>
            </a:r>
            <a:r>
              <a:rPr b="0" lang="sq-AL" sz="1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菇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Xiāng gū</a:t>
            </a: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3214_1250045234P3K6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7238880" cy="6005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28600"/>
            <a:ext cx="1828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辣椒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648320"/>
            <a:ext cx="2438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là jiāo</a:t>
            </a: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20080" cy="515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5791320"/>
            <a:ext cx="7010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她</a:t>
            </a:r>
            <a:r>
              <a:rPr b="1" lang="zh-TW" sz="5000" spc="-1" strike="noStrike">
                <a:solidFill>
                  <a:srgbClr val="000000"/>
                </a:solidFill>
                <a:latin typeface="SimHei"/>
                <a:ea typeface="PMingLiU"/>
              </a:rPr>
              <a:t>要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去學校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Kucober" descr=""/>
          <p:cNvPicPr/>
          <p:nvPr/>
        </p:nvPicPr>
        <p:blipFill>
          <a:blip r:embed="rId1"/>
          <a:stretch/>
        </p:blipFill>
        <p:spPr>
          <a:xfrm>
            <a:off x="365760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2590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小黃瓜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1371600"/>
            <a:ext cx="32767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xiǎo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huáng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guā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f_2346603_1" descr=""/>
          <p:cNvPicPr/>
          <p:nvPr/>
        </p:nvPicPr>
        <p:blipFill>
          <a:blip r:embed="rId1"/>
          <a:stretch/>
        </p:blipFill>
        <p:spPr>
          <a:xfrm>
            <a:off x="129528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4191120"/>
            <a:ext cx="4111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蓮藕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4800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lián ǒu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46080"/>
            <a:ext cx="2514600" cy="6811920"/>
            <a:chOff x="0" y="46080"/>
            <a:chExt cx="2514600" cy="6811920"/>
          </a:xfrm>
        </p:grpSpPr>
        <p:sp>
          <p:nvSpPr>
            <p:cNvPr id="117" name=""/>
            <p:cNvSpPr txBox="1"/>
            <p:nvPr/>
          </p:nvSpPr>
          <p:spPr>
            <a:xfrm>
              <a:off x="0" y="46080"/>
              <a:ext cx="2514600" cy="681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images" descr="See full size image"/>
          <p:cNvPicPr/>
          <p:nvPr/>
        </p:nvPicPr>
        <p:blipFill>
          <a:blip r:embed="rId1"/>
          <a:stretch/>
        </p:blipFill>
        <p:spPr>
          <a:xfrm>
            <a:off x="3505320" y="0"/>
            <a:ext cx="4395600" cy="6629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0"/>
            <a:ext cx="20574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白蘿蔔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5241960"/>
            <a:ext cx="6019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bái luó bo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5819369_3dfa63642b" descr=""/>
          <p:cNvPicPr/>
          <p:nvPr/>
        </p:nvPicPr>
        <p:blipFill>
          <a:blip r:embed="rId1"/>
          <a:stretch/>
        </p:blipFill>
        <p:spPr>
          <a:xfrm>
            <a:off x="2057400" y="0"/>
            <a:ext cx="7391520" cy="6638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0"/>
            <a:ext cx="18288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imes New Roman"/>
              </a:rPr>
              <a:t>胡蘿蔔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thundafunda.com/393/images/coloring-pages/coloring-pictures/school-bus-pictures-coloring-pages-4.gif"/>
          <p:cNvPicPr/>
          <p:nvPr/>
        </p:nvPicPr>
        <p:blipFill>
          <a:blip r:embed="rId1"/>
          <a:srcRect l="0" t="11889" r="0" b="6994"/>
          <a:stretch/>
        </p:blipFill>
        <p:spPr>
          <a:xfrm>
            <a:off x="304920" y="2438280"/>
            <a:ext cx="4086000" cy="441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Owner\AppData\Local\Microsoft\Windows\Temporary Internet Files\Content.IE5\D4CIHQ3S\MPj04423730000[1].jpg"/>
          <p:cNvPicPr/>
          <p:nvPr/>
        </p:nvPicPr>
        <p:blipFill>
          <a:blip r:embed="rId2"/>
          <a:stretch/>
        </p:blipFill>
        <p:spPr>
          <a:xfrm>
            <a:off x="4321080" y="0"/>
            <a:ext cx="4781520" cy="7391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76212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她</a:t>
            </a:r>
            <a:r>
              <a:rPr b="1" lang="zh-TW" sz="5000" spc="-1" strike="noStrike">
                <a:solidFill>
                  <a:srgbClr val="000000"/>
                </a:solidFill>
                <a:latin typeface="Arial"/>
                <a:ea typeface="PMingLiU"/>
              </a:rPr>
              <a:t>們</a:t>
            </a:r>
            <a:r>
              <a:rPr b="1" lang="zh-TW" sz="5000" spc="-1" strike="noStrike">
                <a:solidFill>
                  <a:srgbClr val="000000"/>
                </a:solidFill>
                <a:latin typeface="SimHei"/>
                <a:ea typeface="PMingLiU"/>
              </a:rPr>
              <a:t>要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去學校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66680" y="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5029200"/>
            <a:ext cx="7925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老太太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SimHei"/>
              </a:rPr>
              <a:t>,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您買不買菜？</a:t>
            </a:r>
            <a:r>
              <a:rPr b="1" lang="zh-TW" sz="5000" spc="-1" strike="noStrike">
                <a:solidFill>
                  <a:srgbClr val="000000"/>
                </a:solidFill>
                <a:latin typeface="SimHei"/>
                <a:ea typeface="PMingLiU"/>
              </a:rPr>
              <a:t>買，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我天天買菜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菜市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068560" y="0"/>
            <a:ext cx="4840200" cy="6629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0"/>
            <a:ext cx="15238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PMingLiU"/>
              </a:rPr>
              <a:t>媽媽買菜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5367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380880"/>
            <a:ext cx="914400" cy="65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SimHei"/>
                <a:ea typeface="PMingLiU"/>
              </a:rPr>
              <a:t>你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們吃不吃火雞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PMingLiU"/>
              </a:rPr>
              <a:t>？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04920"/>
            <a:ext cx="10666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吃﹐我們吃火雞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SimHei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914400"/>
            <a:ext cx="7924680" cy="6951960"/>
          </a:xfrm>
          <a:prstGeom prst="rect">
            <a:avLst/>
          </a:prstGeom>
          <a:solidFill>
            <a:srgbClr val="33cc33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5000" spc="-1" strike="noStrike">
                <a:solidFill>
                  <a:srgbClr val="000000"/>
                </a:solidFill>
                <a:latin typeface="Times New Roman"/>
                <a:ea typeface="PMingLiU"/>
              </a:rPr>
              <a:t>蔬  菜  類</a:t>
            </a:r>
            <a:r>
              <a:rPr b="0" lang="en-US" sz="15000" spc="-1" strike="noStrike">
                <a:solidFill>
                  <a:srgbClr val="000000"/>
                </a:solidFill>
                <a:latin typeface="Times New Roman"/>
                <a:ea typeface="PMingLiU"/>
              </a:rPr>
              <a:t>shū cài lèi </a:t>
            </a:r>
            <a:r>
              <a:rPr b="0" lang="zh-TW" sz="15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954160"/>
            <a:ext cx="9144000" cy="946080"/>
            <a:chOff x="0" y="2954160"/>
            <a:chExt cx="9144000" cy="946080"/>
          </a:xfrm>
        </p:grpSpPr>
        <p:sp>
          <p:nvSpPr>
            <p:cNvPr id="58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954160"/>
              <a:ext cx="91440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images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09680" y="1519200"/>
            <a:ext cx="6705720" cy="4057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0"/>
            <a:ext cx="6781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PMingLiU"/>
              </a:rPr>
              <a:t>絲瓜 </a:t>
            </a: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PMingLiU"/>
              </a:rPr>
              <a:t>$2</a:t>
            </a:r>
            <a:r>
              <a:rPr b="0" lang="zh-TW" sz="10000" spc="-1" strike="noStrike" baseline="30000">
                <a:solidFill>
                  <a:srgbClr val="000000"/>
                </a:solidFill>
                <a:latin typeface="Times New Roman"/>
                <a:ea typeface="PMingLiU"/>
              </a:rPr>
              <a:t>49</a:t>
            </a: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0" lang="en-US" sz="7000" spc="-1" strike="noStrike">
                <a:solidFill>
                  <a:srgbClr val="000000"/>
                </a:solidFill>
                <a:latin typeface="Times New Roman"/>
                <a:ea typeface="PMingLiU"/>
              </a:rPr>
              <a:t>lb.</a:t>
            </a:r>
            <a:r>
              <a:rPr b="0" lang="zh-TW" sz="100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257800"/>
            <a:ext cx="3733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sī guā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59fecb7349107a3274765361a715a1f" descr=""/>
          <p:cNvPicPr/>
          <p:nvPr/>
        </p:nvPicPr>
        <p:blipFill>
          <a:blip r:embed="rId2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52280"/>
            <a:ext cx="403848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青椒</a:t>
            </a: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sq-AL" sz="10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q-AL" sz="10000" spc="-1" strike="noStrike" baseline="30000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sq-AL" sz="7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q-AL" sz="7000" spc="-1" strike="noStrike">
                <a:solidFill>
                  <a:srgbClr val="000000"/>
                </a:solidFill>
                <a:latin typeface="Times New Roman"/>
              </a:rPr>
              <a:t>lb.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181480"/>
            <a:ext cx="5943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qīng jiāo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2:31:44Z</dcterms:created>
  <dc:creator>Cheung</dc:creator>
  <dc:description/>
  <dc:language>en-US</dc:language>
  <cp:lastModifiedBy>Cheung</cp:lastModifiedBy>
  <dcterms:modified xsi:type="dcterms:W3CDTF">2009-12-02T05:09:01Z</dcterms:modified>
  <cp:revision>13</cp:revision>
  <dc:subject/>
  <dc:title>PowerPoint Presentation</dc:title>
</cp:coreProperties>
</file>